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5DD-F0B2-4525-B146-883A7463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592-053F-47B7-B711-13FB8104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280-7C8D-49A9-8E51-ABDAE8B8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6BE-A31F-40A7-AF33-4924400B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B3DE-CFB8-422E-A6F0-235D0C19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D97A-86C5-4E3C-89BC-4A96399A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01B0-AE8B-4452-B08A-E23CD584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6199-6093-42E8-9139-448ED2B5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34AD-7EA9-4308-B9C6-4C546956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5960-DC95-4065-BFEC-D07978AF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7AAD-522D-4D95-8282-21250747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75E-4464-492A-989A-12327C2E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4B3D-5E00-42F9-9800-04C00082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3E64-7343-4999-A342-52C48672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2173-9EBA-4AB7-A19E-02903D5E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6496-91D0-43B8-8A58-D317DEDC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52E0-97AE-44EE-A1E5-FAB570F5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516-F335-4406-87E5-AB89E1B7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9B4-97E0-4843-A85B-81BF23B6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3C2-22E3-468E-AA85-683CCA42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15F-189A-4319-8514-71C1E378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E97-01B8-4539-A313-C9BD78BE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7DB-7312-4357-B9B7-4B84684D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041-094B-4548-AA13-248C4E6B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DE2B-E87D-4FF8-A514-B656458F0C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2C34-8CE6-4D23-A98C-96A3859F86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258920" y="1700280"/>
            <a:ext cx="705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Слушаю – забываю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Смотрю – запоминаю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Делаю – понимаю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2987640" y="486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Конфуций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971640" y="2492280"/>
            <a:ext cx="41050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cc"/>
                </a:solidFill>
                <a:latin typeface="Times New Roman"/>
              </a:rPr>
              <a:t>Единица давления в Международной системе единиц (СИ) –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аскаль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i="1" lang="ru-RU" sz="3200" spc="-1" strike="noStrike">
                <a:solidFill>
                  <a:srgbClr val="0000cc"/>
                </a:solidFill>
                <a:latin typeface="Times New Roman"/>
              </a:rPr>
              <a:t> названа в честь французского учёного Блеза Паскаля.(1623- 1662 гг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0010-010-Paskal-Blez-1623-1662-gg"/>
          <p:cNvPicPr/>
          <p:nvPr/>
        </p:nvPicPr>
        <p:blipFill>
          <a:blip r:embed="rId1"/>
          <a:srcRect l="25260" t="16467" r="26425" b="5711"/>
          <a:stretch/>
        </p:blipFill>
        <p:spPr>
          <a:xfrm>
            <a:off x="5364000" y="2924280"/>
            <a:ext cx="3313440" cy="3070080"/>
          </a:xfrm>
          <a:prstGeom prst="rect">
            <a:avLst/>
          </a:prstGeom>
          <a:ln w="0">
            <a:noFill/>
          </a:ln>
        </p:spPr>
      </p:pic>
      <p:sp>
        <p:nvSpPr>
          <p:cNvPr id="123" name="WordArt 14"/>
          <p:cNvSpPr txBox="1"/>
          <p:nvPr/>
        </p:nvSpPr>
        <p:spPr>
          <a:xfrm>
            <a:off x="1763640" y="189000"/>
            <a:ext cx="554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давления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4" name="Object 24"/>
          <p:cNvGraphicFramePr/>
          <p:nvPr/>
        </p:nvGraphicFramePr>
        <p:xfrm>
          <a:off x="2484360" y="1052640"/>
          <a:ext cx="3781440" cy="13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1052640"/>
                    <a:ext cx="378144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Заголовок 1"/>
          <p:cNvSpPr/>
          <p:nvPr/>
        </p:nvSpPr>
        <p:spPr>
          <a:xfrm>
            <a:off x="971640" y="40464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Физминутка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332000" y="184464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0000cc"/>
                </a:solidFill>
                <a:uFillTx/>
                <a:latin typeface="Times New Roman"/>
              </a:rPr>
              <a:t>Учитель: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- Давайте сделаем так, чтобы давление на стул уменьшилось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r>
              <a:rPr b="1" lang="ru-RU" sz="3600" spc="-1" strike="noStrike" u="sng">
                <a:solidFill>
                  <a:srgbClr val="0000cc"/>
                </a:solidFill>
                <a:uFillTx/>
                <a:latin typeface="Times New Roman"/>
              </a:rPr>
              <a:t>Встали.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Постоим на одной ноге, на другой.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Встали на цыпочки, потянулись.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 изменилось давление на пол?</a:t>
            </a: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Молодцы! Садитесь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9"/>
          <p:cNvSpPr/>
          <p:nvPr/>
        </p:nvSpPr>
        <p:spPr>
          <a:xfrm>
            <a:off x="900000" y="2205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пражнение 13(1), стр.1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1600200" y="230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31"/>
          <p:cNvSpPr txBox="1"/>
          <p:nvPr/>
        </p:nvSpPr>
        <p:spPr>
          <a:xfrm>
            <a:off x="1116000" y="189000"/>
            <a:ext cx="77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репление: Решение задач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971640" y="371628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ассчитать давление, производимое на пол силой 500Н, если площадь поверхности 2м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9"/>
          <p:cNvSpPr/>
          <p:nvPr/>
        </p:nvSpPr>
        <p:spPr>
          <a:xfrm>
            <a:off x="971640" y="2205000"/>
            <a:ext cx="7848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1600200" y="230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31"/>
          <p:cNvSpPr txBox="1"/>
          <p:nvPr/>
        </p:nvSpPr>
        <p:spPr>
          <a:xfrm>
            <a:off x="1116000" y="189000"/>
            <a:ext cx="770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репление: Решение задач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Прямая соединительная линия 7"/>
          <p:cNvSpPr/>
          <p:nvPr/>
        </p:nvSpPr>
        <p:spPr>
          <a:xfrm>
            <a:off x="1116000" y="450864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3348000" y="2924280"/>
            <a:ext cx="0" cy="2017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4572000" y="2997360"/>
            <a:ext cx="0" cy="19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Знак запрета 23"/>
          <p:cNvSpPr/>
          <p:nvPr/>
        </p:nvSpPr>
        <p:spPr>
          <a:xfrm>
            <a:off x="5796000" y="3645000"/>
            <a:ext cx="647640" cy="71280"/>
          </a:xfrm>
          <a:prstGeom prst="pie">
            <a:avLst/>
          </a:prstGeom>
          <a:solidFill>
            <a:srgbClr val="a1bd69"/>
          </a:solidFill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Знак запрета 24"/>
          <p:cNvSpPr/>
          <p:nvPr/>
        </p:nvSpPr>
        <p:spPr>
          <a:xfrm>
            <a:off x="5651640" y="4508640"/>
            <a:ext cx="1081080" cy="45720"/>
          </a:xfrm>
          <a:prstGeom prst="pie">
            <a:avLst/>
          </a:prstGeom>
          <a:solidFill>
            <a:srgbClr val="a1bd69"/>
          </a:solidFill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25"/>
          <p:cNvSpPr/>
          <p:nvPr/>
        </p:nvSpPr>
        <p:spPr>
          <a:xfrm>
            <a:off x="1042920" y="907920"/>
            <a:ext cx="78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адача. Какова масса человека если он оказывает на пол давление 15 кПа, а площадь подошвы его ботинок равна 0,04 м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26"/>
          <p:cNvSpPr/>
          <p:nvPr/>
        </p:nvSpPr>
        <p:spPr>
          <a:xfrm>
            <a:off x="971640" y="278136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ано:                   С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p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5кПа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5000 Па  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p =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F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;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 F=p*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=0,04м2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                                      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g=10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/см2        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       m =     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айти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m=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                                  g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F=15000*0.04=600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m=600/10=60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г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     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твет: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m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60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042920" y="191628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гласно инструкции, поставьте оценки соседу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кого решение правильное, поставьте оценку “5”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кого решение правильное, но ответ не полностью поставьте – “4”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кого ответ неверный, но частично сделано  – “3”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1187280" y="33336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меняйтесь тетрадями и проверьте ответы друг друг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5"/>
          <p:cNvSpPr txBox="1"/>
          <p:nvPr/>
        </p:nvSpPr>
        <p:spPr>
          <a:xfrm>
            <a:off x="2700360" y="620640"/>
            <a:ext cx="4032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машнее задание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55640" y="2421000"/>
            <a:ext cx="820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Повторить пройденный материал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§3</a:t>
            </a: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, Упр</a:t>
            </a: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ажнение</a:t>
            </a: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13 </a:t>
            </a: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(1</a:t>
            </a: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,2 и 4</a:t>
            </a:r>
            <a:r>
              <a:rPr b="1" i="1" lang="en-US" sz="2800" spc="-1" strike="noStrike">
                <a:solidFill>
                  <a:srgbClr val="00007d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Страница 10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5580000" y="3860640"/>
            <a:ext cx="3005280" cy="2551320"/>
            <a:chOff x="5580000" y="3860640"/>
            <a:chExt cx="3005280" cy="2551320"/>
          </a:xfrm>
        </p:grpSpPr>
        <p:pic>
          <p:nvPicPr>
            <p:cNvPr id="147" name="Picture 3" descr=""/>
            <p:cNvPicPr/>
            <p:nvPr/>
          </p:nvPicPr>
          <p:blipFill>
            <a:blip r:embed="rId1"/>
            <a:stretch/>
          </p:blipFill>
          <p:spPr>
            <a:xfrm>
              <a:off x="5580000" y="3860640"/>
              <a:ext cx="3005280" cy="25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"/>
            <p:cNvSpPr/>
            <p:nvPr/>
          </p:nvSpPr>
          <p:spPr>
            <a:xfrm>
              <a:off x="5580000" y="3860640"/>
              <a:ext cx="3005280" cy="25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1547640" y="610920"/>
            <a:ext cx="633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Наш урок подходит к концу. Давайте ответим на вопрос: «Что тебе понравилось на уроке?». Предлагаются варианты ответов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Сегодня  я узнал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Было интересно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Было трудно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Я понял, что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Я научился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Меня удивило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Мне захотелось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5591_html_63b65d84"/>
          <p:cNvPicPr/>
          <p:nvPr/>
        </p:nvPicPr>
        <p:blipFill>
          <a:blip r:embed="rId1"/>
          <a:stretch/>
        </p:blipFill>
        <p:spPr>
          <a:xfrm>
            <a:off x="1187280" y="1916280"/>
            <a:ext cx="1656000" cy="1274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0017-046-Na-uroke-bylo-neinteresno"/>
          <p:cNvPicPr/>
          <p:nvPr/>
        </p:nvPicPr>
        <p:blipFill>
          <a:blip r:embed="rId2"/>
          <a:stretch/>
        </p:blipFill>
        <p:spPr>
          <a:xfrm>
            <a:off x="2556000" y="4437000"/>
            <a:ext cx="2303280" cy="216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1251992074_c38-04"/>
          <p:cNvPicPr/>
          <p:nvPr/>
        </p:nvPicPr>
        <p:blipFill>
          <a:blip r:embed="rId3"/>
          <a:stretch/>
        </p:blipFill>
        <p:spPr>
          <a:xfrm>
            <a:off x="6516720" y="1700280"/>
            <a:ext cx="2346120" cy="180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0017-044-Na-uroke-bylo-neinteresno"/>
          <p:cNvPicPr/>
          <p:nvPr/>
        </p:nvPicPr>
        <p:blipFill>
          <a:blip r:embed="rId4"/>
          <a:stretch/>
        </p:blipFill>
        <p:spPr>
          <a:xfrm>
            <a:off x="5076720" y="4437000"/>
            <a:ext cx="2374920" cy="2160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614160" y="3068280"/>
            <a:ext cx="29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1.Урок увлекательны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Мне было интересно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6372360" y="342864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4. На уроке было неинтересно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Скучно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900000" y="545436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2. Я все понял(а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Урок понравился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7451640" y="522000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3. Мне был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все равно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134160" y="393372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Дайте оценку уроку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14"/>
          <p:cNvSpPr txBox="1"/>
          <p:nvPr/>
        </p:nvSpPr>
        <p:spPr>
          <a:xfrm>
            <a:off x="1332000" y="0"/>
            <a:ext cx="6553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флексия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7"/>
          <p:cNvSpPr txBox="1"/>
          <p:nvPr/>
        </p:nvSpPr>
        <p:spPr>
          <a:xfrm>
            <a:off x="1403280" y="765000"/>
            <a:ext cx="712944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1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276720" y="2608200"/>
            <a:ext cx="485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т и кончился урок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нова прозвенел звонок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дыхать мы можем смело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потом опять за дел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 flipV="1" rot="10800000">
            <a:off x="1116000" y="3470760"/>
            <a:ext cx="76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От чего зависит результат действия силы на тело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042920" y="574704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Сила упругости - F упр; Сила тяжести - F тяж; Вес тела - Р; Сила трения -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тр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042920" y="537372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Какие виды сил Вам известны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Rectangle 6" descr=""/>
          <p:cNvPicPr/>
          <p:nvPr/>
        </p:nvPicPr>
        <p:blipFill>
          <a:blip r:embed="rId1"/>
          <a:stretch/>
        </p:blipFill>
        <p:spPr>
          <a:xfrm>
            <a:off x="841320" y="755640"/>
            <a:ext cx="7912080" cy="5127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1116000" y="4437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Результат действия силы на тело зависит от ее модуля, направления, точки приложения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1258920" y="115920"/>
            <a:ext cx="554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ктуализация знаний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Picture 10" descr="sova"/>
          <p:cNvPicPr/>
          <p:nvPr/>
        </p:nvPicPr>
        <p:blipFill>
          <a:blip r:embed="rId2"/>
          <a:stretch/>
        </p:blipFill>
        <p:spPr>
          <a:xfrm>
            <a:off x="6659640" y="189000"/>
            <a:ext cx="2228760" cy="18572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1"/>
          <p:cNvSpPr/>
          <p:nvPr/>
        </p:nvSpPr>
        <p:spPr>
          <a:xfrm>
            <a:off x="1116000" y="1628640"/>
            <a:ext cx="741672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Сила – мера взаимодействия те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Сила – это физическая величина, которая характеризует действие одного тела на друго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1403280" y="692280"/>
            <a:ext cx="4537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Прямоугольник 10" descr=""/>
          <p:cNvPicPr/>
          <p:nvPr/>
        </p:nvPicPr>
        <p:blipFill>
          <a:blip r:embed="rId3"/>
          <a:stretch/>
        </p:blipFill>
        <p:spPr>
          <a:xfrm>
            <a:off x="3956040" y="549360"/>
            <a:ext cx="246384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971640" y="54936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Times New Roman"/>
              </a:rPr>
              <a:t>Обратите внимание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1042920" y="177336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just"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больного повысилось кровяное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 algn="just"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тмосферное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_______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резко падает, возможны осадк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 algn="just"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ренер пытался оказать психологическое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___________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 судью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971640" y="549360"/>
            <a:ext cx="770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«гнести, нагнетать, пригнетать, угнетать, жать, сжимать, нажимать, прижимать, тискать, притискивать, теснить, обременять тяжестью, жать силою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7"/>
          <p:cNvSpPr txBox="1"/>
          <p:nvPr/>
        </p:nvSpPr>
        <p:spPr>
          <a:xfrm>
            <a:off x="1042920" y="404640"/>
            <a:ext cx="756144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вление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давления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кл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8" descr="dublin020209"/>
          <p:cNvPicPr/>
          <p:nvPr/>
        </p:nvPicPr>
        <p:blipFill>
          <a:blip r:embed="rId1"/>
          <a:srcRect l="-181" t="0" r="0" b="18850"/>
          <a:stretch/>
        </p:blipFill>
        <p:spPr>
          <a:xfrm>
            <a:off x="1042920" y="3789360"/>
            <a:ext cx="2592360" cy="2808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3851280" y="3357720"/>
            <a:ext cx="5022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Учитель  физики: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Игнатьев Вячеслав Сергеевич</a:t>
            </a:r>
            <a:br>
              <a:rPr sz="2600"/>
            </a:b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МКОУ Чумаковская школа-интерна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2"/>
          <p:cNvSpPr/>
          <p:nvPr/>
        </p:nvSpPr>
        <p:spPr>
          <a:xfrm>
            <a:off x="2409840" y="765000"/>
            <a:ext cx="33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Times New Roman"/>
              </a:rPr>
              <a:t>Цель урока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332000" y="1916280"/>
            <a:ext cx="67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своить суть понятия «Давление»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знать единицы измерения давления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учиться решать задания, используя знания формулы нахождения давления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1" name="Давление. Пример.mp4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20872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313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971640" y="4762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езультат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действия силы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висит не только от е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модул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аправлен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очки приложен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но 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Times New Roman"/>
              </a:rPr>
              <a:t>и от площади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ой 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Times New Roman"/>
              </a:rPr>
              <a:t>поверхности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, </a:t>
            </a: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Times New Roman"/>
              </a:rPr>
              <a:t>перпендикулярн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оторой она действует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Рисунок 2" descr="lijnik.gif"/>
          <p:cNvPicPr/>
          <p:nvPr/>
        </p:nvPicPr>
        <p:blipFill>
          <a:blip r:embed="rId1"/>
          <a:stretch/>
        </p:blipFill>
        <p:spPr>
          <a:xfrm>
            <a:off x="611280" y="1628640"/>
            <a:ext cx="3103560" cy="4969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dav.bmp"/>
          <p:cNvPicPr/>
          <p:nvPr/>
        </p:nvPicPr>
        <p:blipFill>
          <a:blip r:embed="rId2"/>
          <a:stretch/>
        </p:blipFill>
        <p:spPr>
          <a:xfrm>
            <a:off x="5796000" y="1785960"/>
            <a:ext cx="3097080" cy="4595760"/>
          </a:xfrm>
          <a:prstGeom prst="rect">
            <a:avLst/>
          </a:prstGeom>
          <a:ln w="0">
            <a:noFill/>
          </a:ln>
        </p:spPr>
      </p:pic>
      <p:sp>
        <p:nvSpPr>
          <p:cNvPr id="115" name="Выноска-облако 4"/>
          <p:cNvSpPr/>
          <p:nvPr/>
        </p:nvSpPr>
        <p:spPr>
          <a:xfrm>
            <a:off x="2050920" y="3500280"/>
            <a:ext cx="4681800" cy="3357720"/>
          </a:xfrm>
          <a:prstGeom prst="cloudCallout">
            <a:avLst>
              <a:gd name="adj1" fmla="val 67472"/>
              <a:gd name="adj2" fmla="val 36486"/>
            </a:avLst>
          </a:prstGeom>
          <a:noFill/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2771640" y="3933720"/>
            <a:ext cx="3529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Times New Roman"/>
              </a:rPr>
              <a:t>Чем больше площадь поверхности, на которую действует сила, тем меньше будет результат действующей силы. 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2_html_m2061ae5"/>
          <p:cNvPicPr/>
          <p:nvPr/>
        </p:nvPicPr>
        <p:blipFill>
          <a:blip r:embed="rId1"/>
          <a:stretch/>
        </p:blipFill>
        <p:spPr>
          <a:xfrm>
            <a:off x="5364000" y="4508640"/>
            <a:ext cx="3095640" cy="187164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sp>
        <p:nvSpPr>
          <p:cNvPr id="118" name="Text Box 11"/>
          <p:cNvSpPr/>
          <p:nvPr/>
        </p:nvSpPr>
        <p:spPr>
          <a:xfrm>
            <a:off x="900000" y="1628640"/>
            <a:ext cx="79549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Давление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это физическая величина равная отношение силы, действующей перпендикулярно поверхности, к площади этой поверхност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7" descr="22826_html_786dc372"/>
          <p:cNvPicPr/>
          <p:nvPr/>
        </p:nvPicPr>
        <p:blipFill>
          <a:blip r:embed="rId2"/>
          <a:stretch/>
        </p:blipFill>
        <p:spPr>
          <a:xfrm>
            <a:off x="1476360" y="4581360"/>
            <a:ext cx="3132000" cy="1873440"/>
          </a:xfrm>
          <a:prstGeom prst="rect">
            <a:avLst/>
          </a:prstGeom>
          <a:ln w="28440">
            <a:solidFill>
              <a:srgbClr val="ff0066"/>
            </a:solidFill>
            <a:miter/>
          </a:ln>
        </p:spPr>
      </p:pic>
      <p:sp>
        <p:nvSpPr>
          <p:cNvPr id="120" name="WordArt 80"/>
          <p:cNvSpPr txBox="1"/>
          <p:nvPr/>
        </p:nvSpPr>
        <p:spPr>
          <a:xfrm>
            <a:off x="1979640" y="476280"/>
            <a:ext cx="525636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вление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3:03:59Z</dcterms:created>
  <dc:creator>X</dc:creator>
  <dc:description/>
  <dc:language>en-US</dc:language>
  <cp:lastModifiedBy>Пользователь Windows</cp:lastModifiedBy>
  <dcterms:modified xsi:type="dcterms:W3CDTF">2024-12-10T04:10:38Z</dcterms:modified>
  <cp:revision>156</cp:revision>
  <dc:subject/>
  <dc:title>Презентация PowerPoint</dc:title>
</cp:coreProperties>
</file>